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293-F5CF-46DD-B309-23C5579C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3F6-A2D2-444D-9403-9A5C014D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8DF-6FCE-4C3C-968F-2B0B628F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09D-A6F9-448A-9171-56DE665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D51-6E61-4155-97EC-02883EE0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D036-3C23-4C7C-934E-6FFDAA82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72D-DD22-4271-B3D1-2BEF08E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AB69-E71E-4708-A50A-7380DAC0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2EED-C0FB-40EE-AF34-F1C105A7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64A-199B-4F34-899F-87C72081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EA02-B470-4B61-8451-19162F72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3A2-94DC-41BF-B81D-E4B1E260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9901-12B2-41CF-8A34-A537109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A088-18ED-405F-B480-66A4960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4FE6-C89F-4DFB-84F6-1D675C86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F09C-8DA0-415B-90E5-BF327A6A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23C-347A-43A1-86B9-D1FED98D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107-A244-4328-A6D2-214C9A53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3C4-3D89-489F-8BB5-1FCC0E6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FC6-F461-48AE-B2E0-CEF13D9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E08-ADA7-48E9-B44C-F0228E41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829-7933-42EB-A6AE-66E21B14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AA2-9467-4F8A-AD93-DB3E76B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027-B2C8-46E4-A248-B4BBCD1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7A5B-BD60-4188-9928-4F6C56394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3D3-A2C3-436D-A519-05184C1B51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rment of Reform &amp; Cul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gher Goals for Higher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ah Webster-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master of the Republic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tionary published in 18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GA led to small, denominational, liberal arts colleges in the South &amp;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-bound curr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tate-supported universit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education for women ro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158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 Age of Refor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2438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gradually abolished debtors' pris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a that prisons should reform as well as punish ar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rothy Di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released a report on insanity and asylums; improved conditions for the mentally 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440400" y="152280"/>
            <a:ext cx="2703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mpera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of drinking was found in women, clergymen, and members of Congr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Temperance Soc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of drinking tore down the family struc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al S. D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"Father of Prohibition"; supported banning the manufacture and sale of liqu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men in Revolt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3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of women was to stay at home and be subordinate to her husb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could not vote and when married, she could not retain her property.  Women actually started to avoid marri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inists met at Seneca Falls, New York in a Woman's Rights Convention in 1848; wrote The Declaration of Sentiments (Elizabeth Cady Stanton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ientific Achievement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were more interested in practical gadgets than in pure science. by modern standar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arly 1840s, several American doctors and dentists successfully used laughing gas and ether as anesthe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Literatur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36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lossoming of a National 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the reading material in America was imported or taken from British 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 Irving- the first American to win international recognition as a literary fig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Fenimore Cooper- the first American novelist to gain world f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7078680" y="-3240"/>
            <a:ext cx="20908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Literature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ar Allan Poe- wrote with a pessimistic tone, not like the literature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man Melville- writer of the novel Moby Dic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ry Wadsworth Longfellow- one of the most famous poets to come from America wrote for the refined class; was adopted by the less-cultured cl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 Great Awakening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 of spiritual ferv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p meetings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ousands gathered to listen to a pre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sted church memb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ted humanitarian re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ary 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6a00e54eeede1588340133ed8a3580970b-500wi"/>
          <p:cNvPicPr/>
          <p:nvPr/>
        </p:nvPicPr>
        <p:blipFill>
          <a:blip r:embed="rId1"/>
          <a:stretch/>
        </p:blipFill>
        <p:spPr>
          <a:xfrm>
            <a:off x="5715000" y="4859280"/>
            <a:ext cx="2895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 Great Awakening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Cartwr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veling preac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ed upon sinners to rep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Grandison Finn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petercartwright"/>
          <p:cNvPicPr/>
          <p:nvPr/>
        </p:nvPicPr>
        <p:blipFill>
          <a:blip r:embed="rId1"/>
          <a:stretch/>
        </p:blipFill>
        <p:spPr>
          <a:xfrm>
            <a:off x="6858000" y="1828800"/>
            <a:ext cx="1469880" cy="18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220px-Charles_g_finney"/>
          <p:cNvPicPr/>
          <p:nvPr/>
        </p:nvPicPr>
        <p:blipFill>
          <a:blip r:embed="rId2"/>
          <a:stretch/>
        </p:blipFill>
        <p:spPr>
          <a:xfrm>
            <a:off x="3124080" y="4343400"/>
            <a:ext cx="2095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 Great Awakening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inization of relig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 class women- religious enthusia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f new church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spiritual wo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nominational Diversity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eat Awakening widened the lines b/w relig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iscopalians, Presbyterians, Unitarians: wealthier classes of society (untouched by SGA, eas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ists, Baptists: spawned by religious fervor, came from less prosperous classes in S &amp; 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ert </a:t>
            </a:r>
            <a:r>
              <a:rPr b="1" lang="ja-JP" sz="4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ion</a:t>
            </a:r>
            <a:r>
              <a:rPr b="1" lang="ja-JP" sz="4400" spc="-1" strike="noStrike">
                <a:solidFill>
                  <a:srgbClr val="eaeaea"/>
                </a:solidFill>
                <a:latin typeface="Tahoma"/>
              </a:rPr>
              <a:t>”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in Uta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k of Morm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of Latter Day S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religion- Joseph Smi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ion (polygam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gham Young leads Mormons to Uta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220px-BrighamYoung1"/>
          <p:cNvPicPr/>
          <p:nvPr/>
        </p:nvPicPr>
        <p:blipFill>
          <a:blip r:embed="rId1"/>
          <a:stretch/>
        </p:blipFill>
        <p:spPr>
          <a:xfrm>
            <a:off x="7391520" y="1371600"/>
            <a:ext cx="1638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cendentalis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den age in American lit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jected John Lock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heory that knowledge comes to the mind from the s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th 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ends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senses: it cannot be found through observation al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reliance &amp; self-discipl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cendentalis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lph Waldo Em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et &amp; philosop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ssed self-reliance &amp; self-confid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spoken critic of slave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ry David Thor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et, mystic, non-confor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th through study &amp; medi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220px-Emerson3_cropped"/>
          <p:cNvPicPr/>
          <p:nvPr/>
        </p:nvPicPr>
        <p:blipFill>
          <a:blip r:embed="rId1"/>
          <a:stretch/>
        </p:blipFill>
        <p:spPr>
          <a:xfrm>
            <a:off x="6781680" y="914400"/>
            <a:ext cx="1446480" cy="220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230px-Henry_David_Thoreau"/>
          <p:cNvPicPr/>
          <p:nvPr/>
        </p:nvPicPr>
        <p:blipFill>
          <a:blip r:embed="rId2"/>
          <a:stretch/>
        </p:blipFill>
        <p:spPr>
          <a:xfrm>
            <a:off x="7323120" y="4267080"/>
            <a:ext cx="1820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ducation Refor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-supported public education came abou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e their children because the children were the fu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very many schools in the U.S. because of their high costs to commun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race Mann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paigned effectively for a better schooling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620120" y="76320"/>
            <a:ext cx="15350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21:01:46Z</dcterms:created>
  <dc:creator>emily.johnson</dc:creator>
  <dc:description/>
  <dc:language>en-US</dc:language>
  <cp:lastModifiedBy>Golden, Emily</cp:lastModifiedBy>
  <dcterms:modified xsi:type="dcterms:W3CDTF">2013-11-12T16:57:54Z</dcterms:modified>
  <cp:revision>7</cp:revision>
  <dc:subject/>
  <dc:title>Chapter 15</dc:title>
</cp:coreProperties>
</file>